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1721-75E7-48F4-8A7F-9C331C6DF7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D4C6-983A-4082-8BCC-AE4BA0A5F3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BUDOWA NORMY PRAWN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HIPOTEZA + DYSPOZYCJA +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SANKCJ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Hipotez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hipotetyczna sytuacja, określająca warunki powinnego lub zakazanego zachowania się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to = każdy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yspozycj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wskazuje sposób, w jaki adresat normy powinien się zachować: nakaz, zakaz, dozwolenie;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Sankcj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określa konsekwencje prawne zachowania niezgodnego z obowiązkiem (norma prawna nie zawsze posiada ten element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D3FC-D15E-4921-9FE2-D01D33F668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poteza – k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yspozycja – co, kie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nkcja – „a jak nie, to…”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0B91-322B-41D1-B92C-55E778835D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poteza – k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yspozycja – co, kie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nkcja – „a jak nie, to…”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0428-686B-4D25-B13D-8F601134C1E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poteza – k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yspozycja – co, kie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nkcja – „a jak nie, to…”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B141-216C-4FDC-AFA1-A7025EB933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Przepis prawny i norma prawn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rma prawna nadaje znaczenie. Przepis (lub kilka przepisów) jest „nośnikiem informacji” o treści normy prawnej. Norma musi zostać wyinterpretowana z przepisu prawnego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JŚCIE EWAKUACYJNE – nakaz podążania we wskazanym kierunku podczas określonych sytuacj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NAK B-36 „zakaz zatrzymywania się i postoju” – nadanie konwencjonalnego znaczenia okrągłemu kawałkowi metalu pomalowanemu na niebiesko i czerwono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D3A9-BB70-4C9E-90C5-347DEF8319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Niesprzeczność praw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prawo nie powinno zwierać norm wobec siebie przeciwstawnych (jedna norma zakazuje zachowania X, a druga norma nakazuje zachowanie 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4767-165B-49DF-94A6-D7B58E792E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5551-1B05-42E4-8EBE-124CFF833C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7F0B-4EA9-4E9B-BF40-EC61BB0147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76AE-1908-4BB9-B38D-8849FE5560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B7ED-30C8-4F26-94E5-B6A0531557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AA01-6C32-457B-B7C9-2F232DD151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RMATYWNY – ustalający reguły, zawierający normy postępow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NORAMTYWNY (w tym kontekście) – nie wynikający z ustalonych i zatwierdzonych regu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445F-538E-4375-9510-4FCDCB0527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zbieżna regulacja norm moralnych i prawnych sprawa że wzmacniają się one, rozbieżna, że osłabiają się wzajemni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; w zależności od przyjętej koncepcji prawa różnie rozpatruje się związki miedzy normami prawnymi i moralnymi; na poziomie całego systemu prawa sprzeczność z moralnością może doprowadzić do odebrania prawu prawowitości (legitymizacji społ.) i odrzucenia przez znaczną część społeczeństw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6F13-4A66-47BB-961F-C478127A40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korzystując podany przykład, zaczerpnięty z publikacji Nilsa Christie „Dogodna ilość przestępstw”,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prowadzimy dyskusję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 przenikaniu się norm – prawnych, moralnych, obyczajowych, itp.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rto przedstawiać poszczególne akapity pojedynczo – prosząc uczestników o ocenę zachowania mężczyzny w kontekście norm społecznych (po wyświetleniu pierwszego punktu prosimy o komentarz, po wyświetleniu drugiego także, następnie jest punkt informacyjny i o dalszy komentarz prosimy po wyświetleniu punktów trzeciego i czwarteg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F20F-F8AE-41A3-95F3-6F5119023C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D18C-C352-4C20-9255-458192A4E7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75D0-FE87-45C2-81BA-2C08B80B91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0AEC-56B2-4199-B7B5-3C3EBAF997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wiązku ze zróżnicowanym sposobem używania terminów „gałąź prawa” i „dziedzina prawa” konieczna jest klaryfikacja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n slajd został dodany w związku z dyskusją, jak powstała podczas prowadzenia zajęć „Wstęp do nauki prawa”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A648-6E2E-4DE3-ACBF-4D4FCCD975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E978-4CB6-48FB-83C5-A37437C976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2D58-5A5C-4C9A-89A9-000EB3F97F3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Konstytucja, ustawy, rozporządzenia, ratyfikowane umowy międzynarodowe są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ogłaszane w Dzienniku Ustaw RP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Akty o charakterze wewnętrznym zaś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w Monitorze Polskim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; ogłaszanie aktów prawa miejscowego przybiera różne postac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TEKST AUTENTYCZNY – należycie ogłoszony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pierwotny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 tekst aktu prawnego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TEKST JEDNOLITY – tekst aktu prawnego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uwzględniający wszelkie zmiany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, jakie zostały w nim wprowadzone</a:t>
            </a:r>
            <a:br>
              <a:rPr sz="1200"/>
            </a:b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od chwili jego uchwalenia;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ogłoszony urzędowo 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(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naczna liczba zmian w akcie normatywnym lub jego wielokrotne nowelizowanie utrudniają posługiwanie się tym aktem – wówczas Marszałek Sejmu (w przypadku ustaw) lub organ, który wydał akt ogłasza tekst jednolity); oficjalny tekst jednolity ogłasza się w formie obwieszczenia w dzienniku urzędowym, w którym akt ten był pierwotnie ogłoszon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TEKST UJEDNOLICONY – tekst aktu prawnego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uwzględniający wszelkie zmiany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, jakie zostały w nim wprowadzone</a:t>
            </a:r>
            <a:br>
              <a:rPr sz="1200"/>
            </a:b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od chwili jego uchwalenia;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nie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ogłoszony urzędowo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 (internet, wydawnictwa prawnicze, elektroniczne systemy prawnicz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NOWELIZACJA AKTU PRAWNEGO 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– częściowa zmiana obowiązującego aktu prawnego przez INNY AKT PRAWNY tej samej lub wyższej rangi, który został wydany później wobec aktu nowelizowanego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2704-C8A5-498F-9DCC-A3460AE17A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4FF-644F-4E80-97ED-D38468A29C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4692-D48F-4132-9315-4A50DF2C44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DA19-6BA4-496A-9C27-BF15E1714E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A60F-1EED-441A-AE81-83D05690BE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YSKUSJ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– czy korzyści przemawiające za odejściem od drukowania Dz. U. są wystarczającymi osiągnięciami? Czy prawo obywatela dostępu do prawa jest naruszone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wo nie gwarantuje, że dostęp do treści przepisów ma być możliwy w każdej chwili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net jest powszechnym źródłem dostępu do zasobów wiedzy. Dostęp do treści aktów prawnych jest bezpłat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75B8-2B17-47D4-A538-D98199653A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9DC1-2993-433F-8EE4-0567BD7B86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696B-E02C-45DD-8BE0-AE7494D519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ECFB-CB22-4DC7-8DFB-6A778BEAC1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4CD7-C601-462F-BF0F-0BD8F798A0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6AB4-3270-4B72-A860-A0207CA1E1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5E12-8DDC-42F1-A2C2-E70D138731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PRZEPIS PRAWNY t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część aktu prawnego (samodzielna jednostka redakcyjna tekstu prawnego; zwrot językowy wskazujący sposób postępowania; formalnie wyodrębniony, wizualnie wyróżniony i opatrzony nazwą indywidualizującą, taką jak: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artykuł, paragraf, ustęp, tire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; podstawa ustalenia normy prawnej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kt prawny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 akt zawierający normy prawne, wydany przez uprawniony podmiot, we właściwej procedurze i należycie ogłoszony (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np. Konstytucja, ustawa, rozporządzenie, zarządzenie, itp.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Norma prawn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 reguła postępowania wyinterpretowana z przepisów prawnych (reguła zachowania skonstruowan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podstawie co najmniej jednego przepisu praw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1D25-D2A7-4951-866D-F97133E19C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D619-92C6-4712-8502-66C55505B8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4599-3968-4319-87F5-863E4AE681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0DF-324E-4FFA-9E7B-8E1FC8FA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DE5-168B-4D4F-BC91-21121C9D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42E-AF82-49CA-A3C2-9917108C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0DC-FD91-4435-A343-1E122750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2CD-DCBF-43A1-90BD-ADE7A5CE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E9C-0BA5-4354-B6F8-B1364600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113-7E54-476D-A23D-1CD74E31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4A5-0966-448E-A4A7-09796EA3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821-2AF0-46CA-A213-42D83391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BA5-4F20-4AA3-B004-47D256AB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8C1-DA15-4B13-BC7B-26E4551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92F-45AD-4393-8689-803A6990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3497-915E-4270-9F1C-77AC849E92A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le tekstowe 1"/>
          <p:cNvSpPr/>
          <p:nvPr/>
        </p:nvSpPr>
        <p:spPr>
          <a:xfrm>
            <a:off x="250920" y="5589720"/>
            <a:ext cx="8327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Materiały szkoleniowe projektu </a:t>
            </a:r>
            <a:r>
              <a:rPr b="1" i="1" lang="pl-PL" sz="1400" spc="-1" strike="noStrike">
                <a:solidFill>
                  <a:srgbClr val="c00000"/>
                </a:solidFill>
                <a:latin typeface="Arial"/>
              </a:rPr>
              <a:t>Edukacja prawna w podstawie programow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Sulejówek, 2013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0" y="1773360"/>
            <a:ext cx="91440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005696"/>
                </a:solidFill>
                <a:latin typeface="Arial"/>
              </a:rPr>
              <a:t>Wstęp do nauki </a:t>
            </a:r>
            <a:r>
              <a:rPr b="1" lang="pl-PL" sz="3900" spc="-1" strike="noStrike">
                <a:solidFill>
                  <a:srgbClr val="c00000"/>
                </a:solidFill>
                <a:latin typeface="Arial"/>
              </a:rPr>
              <a:t>praw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c00000"/>
                </a:solidFill>
                <a:latin typeface="Arial"/>
              </a:rPr>
              <a:t>Agnieszka Świder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NORMA PRAWN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90792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Ustawa z dnia 21 stycznia 2005 r. o doświadczeniach na zwierzę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l-PL" sz="1700" spc="-1" strike="noStrike">
                <a:solidFill>
                  <a:srgbClr val="005696"/>
                </a:solidFill>
                <a:latin typeface="Arial"/>
              </a:rPr>
              <a:t>art. 5. pkt 3. Zabrania się przeprowadzania doświadczeń w celu testowania kosmetyków</a:t>
            </a:r>
            <a:br>
              <a:rPr sz="1700"/>
            </a:br>
            <a:r>
              <a:rPr b="0" lang="pl-PL" sz="1700" spc="-1" strike="noStrike">
                <a:solidFill>
                  <a:srgbClr val="005696"/>
                </a:solidFill>
                <a:latin typeface="Arial"/>
              </a:rPr>
              <a:t>lub środków higieniczny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700" spc="-1" strike="noStrike">
                <a:solidFill>
                  <a:srgbClr val="005696"/>
                </a:solidFill>
                <a:latin typeface="Arial"/>
              </a:rPr>
              <a:t>art. 40. 1. Kto przeprowadza doświadczenia w celu testowania kosmetyków lub środków higienicznych podlega grzywnie, karze ograniczenia wolności albo pozbawienia wolności</a:t>
            </a:r>
            <a:br>
              <a:rPr sz="1700"/>
            </a:br>
            <a:r>
              <a:rPr b="0" lang="pl-PL" sz="1700" spc="-1" strike="noStrike">
                <a:solidFill>
                  <a:srgbClr val="005696"/>
                </a:solidFill>
                <a:latin typeface="Arial"/>
              </a:rPr>
              <a:t>do rok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NORMA ZAKAZU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3573360"/>
          <a:ext cx="8785440" cy="28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OT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b8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SPOZY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b8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K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b8b9"/>
                    </a:solidFill>
                  </a:tcPr>
                </a:tc>
              </a:tr>
              <a:tr h="21178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00569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określa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krąg adresatów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no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569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opisuje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sytuację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, w której norma ma zastosowa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00569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określa sposób, w jaki należy się zachowa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569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nakaz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,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zakaz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,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przyzwol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00569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określa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konsekwencje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zachowania niezgodnego tym określonym w dyspozy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7"/>
                    </a:solidFill>
                  </a:tcPr>
                </a:tc>
              </a:tr>
            </a:tbl>
          </a:graphicData>
        </a:graphic>
      </p:graphicFrame>
      <p:sp>
        <p:nvSpPr>
          <p:cNvPr id="79" name="pole tekstowe 4"/>
          <p:cNvSpPr/>
          <p:nvPr/>
        </p:nvSpPr>
        <p:spPr>
          <a:xfrm>
            <a:off x="299520" y="5805360"/>
            <a:ext cx="2480400" cy="337320"/>
          </a:xfrm>
          <a:prstGeom prst="rect">
            <a:avLst/>
          </a:prstGeom>
          <a:solidFill>
            <a:srgbClr val="eeb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(KAŻDEMU)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zabrania si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ole tekstowe 6"/>
          <p:cNvSpPr/>
          <p:nvPr/>
        </p:nvSpPr>
        <p:spPr>
          <a:xfrm>
            <a:off x="3075480" y="5373720"/>
            <a:ext cx="3021480" cy="778680"/>
          </a:xfrm>
          <a:prstGeom prst="rect">
            <a:avLst/>
          </a:prstGeom>
          <a:solidFill>
            <a:srgbClr val="eeb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ZABRANIA SIĘ DOŚWIADCZE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NA ZWIERZĘTACH W CEL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TESTOWANIA KOSMETYKÓ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7"/>
          <p:cNvSpPr/>
          <p:nvPr/>
        </p:nvSpPr>
        <p:spPr>
          <a:xfrm>
            <a:off x="6161760" y="5157720"/>
            <a:ext cx="2684520" cy="1235160"/>
          </a:xfrm>
          <a:prstGeom prst="rect">
            <a:avLst/>
          </a:prstGeom>
          <a:solidFill>
            <a:srgbClr val="eeb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POD KAR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GRZYWN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OGRANICZE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lu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POZBAWIENIA WOLNOŚC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NORMA PRAWN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Ustawa z dnia 6 lipca 2001 r. o usługach detektywisty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Dz. U. nr 12, poz. 110 ze zm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art. 31.1.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 Osoba ubiegająca się o przystąpienie do egzaminu [na detektywa] składa do Komendanta Głównego Policji  pisemny wniosek najpóźniej 30 dni przed terminem rozpoczęcia egzam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3. 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Jeżeli wniosek, o którym mowa w ust. 1, został złożony po upływie wyznaczonego terminu (…) wniosek pozostawia się bez rozpoznania, o czym zawiadamia się wnioskodawc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Na podstawie powyższego przykładu proszę zbudować normę pra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ole tekstowe 3"/>
          <p:cNvSpPr/>
          <p:nvPr/>
        </p:nvSpPr>
        <p:spPr>
          <a:xfrm>
            <a:off x="82692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HIPO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4"/>
          <p:cNvSpPr/>
          <p:nvPr/>
        </p:nvSpPr>
        <p:spPr>
          <a:xfrm>
            <a:off x="3790080" y="4797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DYSPOZ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5"/>
          <p:cNvSpPr/>
          <p:nvPr/>
        </p:nvSpPr>
        <p:spPr>
          <a:xfrm>
            <a:off x="7219080" y="47973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SANK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ole tekstowe 7"/>
          <p:cNvSpPr/>
          <p:nvPr/>
        </p:nvSpPr>
        <p:spPr>
          <a:xfrm>
            <a:off x="170640" y="5300640"/>
            <a:ext cx="280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Osoba ubiegająca się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o przystąpienie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do egzaminu na detektyw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8"/>
          <p:cNvSpPr/>
          <p:nvPr/>
        </p:nvSpPr>
        <p:spPr>
          <a:xfrm>
            <a:off x="3368880" y="5157720"/>
            <a:ext cx="3052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chcąc do niego przystąpić,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musi złożyć pisemny wniosek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do KGP na 30 dni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przed terminem egzamin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ole tekstowe 9"/>
          <p:cNvSpPr/>
          <p:nvPr/>
        </p:nvSpPr>
        <p:spPr>
          <a:xfrm>
            <a:off x="6604560" y="5157720"/>
            <a:ext cx="23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bo inaczej jej wniosek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zostanie pozostawiony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bez rozpozn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ole tekstowe 10"/>
          <p:cNvSpPr/>
          <p:nvPr/>
        </p:nvSpPr>
        <p:spPr>
          <a:xfrm>
            <a:off x="1403280" y="2060640"/>
            <a:ext cx="5329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</a:rPr>
              <a:t>Osoba ubiegająca się o przystąpienie do egzam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ole tekstowe 11"/>
          <p:cNvSpPr/>
          <p:nvPr/>
        </p:nvSpPr>
        <p:spPr>
          <a:xfrm>
            <a:off x="4140360" y="2349360"/>
            <a:ext cx="223200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b050"/>
                </a:solidFill>
                <a:latin typeface="Arial"/>
              </a:rPr>
              <a:t>pisemny wnios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ole tekstowe 12"/>
          <p:cNvSpPr/>
          <p:nvPr/>
        </p:nvSpPr>
        <p:spPr>
          <a:xfrm>
            <a:off x="1835280" y="3573360"/>
            <a:ext cx="455292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b050"/>
                </a:solidFill>
                <a:latin typeface="Arial"/>
              </a:rPr>
              <a:t>wniosek pozostawia się bez rozpoznan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NORMA PRAWN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Ustawa z dnia 31 stycznia 1959 r. o cmentarzach i chowaniu zmarłych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Dz. U. z 2011 r., nr 118, poz. 687 – t.j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art. 8. 2.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 W miejscowościach, w których nie ma cmentarzy komunalnych, zarząd cmentarza wyznaniowego jest obowiązany umożliwić pochowanie na tym cmentarzu, bez jakiejkolwiek dyskryminacji, osób zmarłych innego wyznania lub niewierząc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art. 18. 1.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 Kto narusza przepisy niniejszej ustawy (…) podlega karze aresztu lub grz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Na podstawie powyższego przykładu proszę zbudować normę pra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ole tekstowe 3"/>
          <p:cNvSpPr/>
          <p:nvPr/>
        </p:nvSpPr>
        <p:spPr>
          <a:xfrm>
            <a:off x="395280" y="42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HIPO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4"/>
          <p:cNvSpPr/>
          <p:nvPr/>
        </p:nvSpPr>
        <p:spPr>
          <a:xfrm>
            <a:off x="3069360" y="4221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DYSPOZ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ole tekstowe 5"/>
          <p:cNvSpPr/>
          <p:nvPr/>
        </p:nvSpPr>
        <p:spPr>
          <a:xfrm>
            <a:off x="7101720" y="4221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SANK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7"/>
          <p:cNvSpPr/>
          <p:nvPr/>
        </p:nvSpPr>
        <p:spPr>
          <a:xfrm>
            <a:off x="12600" y="50133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Zarząd cmentar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ole tekstowe 8"/>
          <p:cNvSpPr/>
          <p:nvPr/>
        </p:nvSpPr>
        <p:spPr>
          <a:xfrm>
            <a:off x="2283840" y="4653000"/>
            <a:ext cx="33584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musi umożliwić pochówek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osobom niewierzącym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lub innego wyznania, gdy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w danej miejscowości nie ma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cmentarzy komunal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ole tekstowe 9"/>
          <p:cNvSpPr/>
          <p:nvPr/>
        </p:nvSpPr>
        <p:spPr>
          <a:xfrm>
            <a:off x="5757120" y="4653000"/>
            <a:ext cx="33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inaczej członkom Zarządu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grozi areszt albo Zarząd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będzie musiał uiścić grzywn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NORMA PRAWN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Ustawa z dnia 6 czerwca 1997 r. Kodeks karny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Dz. U. z 1997 r., nr 88, poz. 553 ze zm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art. 233. § 1.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 Kto, składając zeznanie mające służyć za dowód w postępowaniu sądowym lub w innym postępowaniu prowadzonym na podstawie ustawy, zeznaje nieprawdę lub zataja prawdę, podlega karze pozbawienia wolności do lat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Na podstawie powyższego przykładu proszę zbudować normę pra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ole tekstowe 3"/>
          <p:cNvSpPr/>
          <p:nvPr/>
        </p:nvSpPr>
        <p:spPr>
          <a:xfrm>
            <a:off x="395280" y="42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HIPO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3069360" y="4221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DYSPOZ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ole tekstowe 5"/>
          <p:cNvSpPr/>
          <p:nvPr/>
        </p:nvSpPr>
        <p:spPr>
          <a:xfrm>
            <a:off x="7101720" y="4221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SANK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ole tekstowe 7"/>
          <p:cNvSpPr/>
          <p:nvPr/>
        </p:nvSpPr>
        <p:spPr>
          <a:xfrm>
            <a:off x="257760" y="49417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KAŻDA 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8"/>
          <p:cNvSpPr/>
          <p:nvPr/>
        </p:nvSpPr>
        <p:spPr>
          <a:xfrm>
            <a:off x="2716560" y="4797360"/>
            <a:ext cx="287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SKŁADAJĄC ZEZNANIA,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MUSI MÓWIĆ PRAWD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ole tekstowe 9"/>
          <p:cNvSpPr/>
          <p:nvPr/>
        </p:nvSpPr>
        <p:spPr>
          <a:xfrm>
            <a:off x="6237000" y="4653000"/>
            <a:ext cx="26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A JAK NIE, GROZI JEJ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KARA POZBAWIENIA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WOLNOŚCI do lat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ole tekstowe 10"/>
          <p:cNvSpPr/>
          <p:nvPr/>
        </p:nvSpPr>
        <p:spPr>
          <a:xfrm>
            <a:off x="1694520" y="1989000"/>
            <a:ext cx="54180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b050"/>
                </a:solidFill>
                <a:latin typeface="Arial"/>
              </a:rPr>
              <a:t>K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ole tekstowe 12"/>
          <p:cNvSpPr/>
          <p:nvPr/>
        </p:nvSpPr>
        <p:spPr>
          <a:xfrm>
            <a:off x="3419640" y="2565360"/>
            <a:ext cx="38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</a:rPr>
              <a:t>podlega karze pozbawienia wol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449748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c00000"/>
                </a:solidFill>
                <a:latin typeface="Arial"/>
              </a:rPr>
              <a:t>PRZEP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c00000"/>
                </a:solidFill>
                <a:latin typeface="Arial"/>
              </a:rPr>
              <a:t>PRAWN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1628280"/>
            <a:ext cx="449748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najmniejszy element tekstu prawnego 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w postaci zdania zaopatrzonego wskaźnikiem identyfikacyjnym: artykuł, paragraf, punkt, litera it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333000"/>
            <a:ext cx="449892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c00000"/>
                </a:solidFill>
                <a:latin typeface="Arial"/>
              </a:rPr>
              <a:t>NORM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c00000"/>
                </a:solidFill>
                <a:latin typeface="Arial"/>
              </a:rPr>
              <a:t>PRAWN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1628280"/>
            <a:ext cx="449892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najmniejszy, stanowiący sensowną całość element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norma postępowania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: nakaz, zakaz, dozwol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2060640" cy="1544760"/>
          </a:xfrm>
          <a:prstGeom prst="rect">
            <a:avLst/>
          </a:prstGeom>
          <a:ln w="0">
            <a:noFill/>
          </a:ln>
        </p:spPr>
      </p:pic>
      <p:cxnSp>
        <p:nvCxnSpPr>
          <p:cNvPr id="117" name="Łącznik prosty ze strzałką 10"/>
          <p:cNvCxnSpPr/>
          <p:nvPr/>
        </p:nvCxnSpPr>
        <p:spPr>
          <a:xfrm>
            <a:off x="2626920" y="4220640"/>
            <a:ext cx="2592720" cy="1080"/>
          </a:xfrm>
          <a:prstGeom prst="straightConnector1">
            <a:avLst/>
          </a:prstGeom>
          <a:ln w="28440">
            <a:solidFill>
              <a:srgbClr val="005696"/>
            </a:solidFill>
            <a:miter/>
            <a:tailEnd len="med" type="arrow" w="med"/>
          </a:ln>
        </p:spPr>
      </p:cxnSp>
      <p:sp>
        <p:nvSpPr>
          <p:cNvPr id="118" name="pole tekstowe 11"/>
          <p:cNvSpPr/>
          <p:nvPr/>
        </p:nvSpPr>
        <p:spPr>
          <a:xfrm>
            <a:off x="5591160" y="40053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WYJŚCIE EWAKUACYJ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556000" y="4581360"/>
            <a:ext cx="2171520" cy="1629000"/>
          </a:xfrm>
          <a:prstGeom prst="rect">
            <a:avLst/>
          </a:prstGeom>
          <a:ln w="0">
            <a:noFill/>
          </a:ln>
        </p:spPr>
      </p:pic>
      <p:cxnSp>
        <p:nvCxnSpPr>
          <p:cNvPr id="120" name="Łącznik prosty ze strzałką 14"/>
          <p:cNvCxnSpPr/>
          <p:nvPr/>
        </p:nvCxnSpPr>
        <p:spPr>
          <a:xfrm>
            <a:off x="4932360" y="5373360"/>
            <a:ext cx="792720" cy="1080"/>
          </a:xfrm>
          <a:prstGeom prst="straightConnector1">
            <a:avLst/>
          </a:prstGeom>
          <a:ln w="28440">
            <a:solidFill>
              <a:srgbClr val="005696"/>
            </a:solidFill>
            <a:miter/>
            <a:tailEnd len="med" type="arrow" w="med"/>
          </a:ln>
        </p:spPr>
      </p:cxnSp>
      <p:sp>
        <p:nvSpPr>
          <p:cNvPr id="121" name="pole tekstowe 15"/>
          <p:cNvSpPr/>
          <p:nvPr/>
        </p:nvSpPr>
        <p:spPr>
          <a:xfrm>
            <a:off x="5749560" y="5084640"/>
            <a:ext cx="33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ZAKAZ ZATRZYMYWANIA S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I POSTO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Tworzenie pra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8064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Zasady tworzenia praw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zupełność systemu pr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Prawo znajduje zastosowanie do każdej sytuacji wymagającej rozstrzygnięcia</a:t>
            </a:r>
            <a:br>
              <a:rPr sz="1800"/>
            </a:b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na gruncie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Dla każdego zagadnienia prawnego istnieje norma praw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PRAWO NIE POWINNO ZAWIERAĆ LU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spójność prawa (niesprzeczność praw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Normy prawne są między sobą powiązane i spó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PRAWO NIE POWINNO BYĆ WEWNĘTRZNIE SPRZECZ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hierarchiczność pr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System prawny jest zbudowany z norm wyższego i niższego rzę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Normy niższego rzędu służą realizacji norm wyższego rzę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REALIZACJA NORM KONSTYTUCYJ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Wykładnia prawa</a:t>
            </a:r>
            <a:br>
              <a:rPr sz="3000"/>
            </a:br>
            <a:r>
              <a:rPr b="1" lang="pl-PL" sz="2800" spc="-1" strike="noStrike">
                <a:solidFill>
                  <a:srgbClr val="c00000"/>
                </a:solidFill>
                <a:latin typeface="Arial"/>
              </a:rPr>
              <a:t>(interpretacja praw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569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Proces zmierzający do ustalenia znaczenia przepisu prawnego</a:t>
            </a:r>
            <a:br>
              <a:rPr sz="2200"/>
            </a:b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i w rezultacie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do ustalenia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zawartych w nim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norm prawnych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art. 201. § 1. </a:t>
            </a:r>
            <a:r>
              <a:rPr b="1" i="1" lang="pl-PL" sz="2000" spc="-1" strike="noStrike">
                <a:solidFill>
                  <a:srgbClr val="005696"/>
                </a:solidFill>
                <a:latin typeface="Arial"/>
              </a:rPr>
              <a:t>Kodeksu spółek handlowych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Zarząd prowadzi sprawy spółki i reprezentuje spółk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Zarząd spółki jest uprawniony do dokonywania wszelkich czynności związanych z prowadzeniem jej spraw. Jest także uprawniony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do występowania w imieniu spółki i do zawierania w jej imieniu czynności prawnych. Odpowiada za ogół działalności spół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Łącznik prosty ze strzałką 9"/>
          <p:cNvCxnSpPr/>
          <p:nvPr/>
        </p:nvCxnSpPr>
        <p:spPr>
          <a:xfrm>
            <a:off x="610920" y="3284280"/>
            <a:ext cx="1080" cy="432360"/>
          </a:xfrm>
          <a:prstGeom prst="straightConnector1">
            <a:avLst/>
          </a:prstGeom>
          <a:ln w="28440">
            <a:solidFill>
              <a:srgbClr val="0056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Subsumpc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Proces polegający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na przyporządkowaniu stanu faktycznego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(zaistniałych okoliczności, zachowań, itp.)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do normy prawnej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, wyinterpretowanej z przepisu prawn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Subsumpcja jest jednym z etapów stosowania prawa przez sądy i organy administr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569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Stosowanie praw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ustalenie stanu faktycz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zebranie przepisów prawnych, które znajdą zastosowanie do tego stanu faktycz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ykładnia (interpretacja) pr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subsump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iążące ustalenie konsekwencji prawnych (wydanie orzeczenia sądowego, decyzji administracyjne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Stosowanie pra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STAN FAKTY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Pan Igor zdał egzamin notarialny i odbył dwuletnią asesurę. Złożył wniosek</a:t>
            </a:r>
            <a:br>
              <a:rPr sz="1800"/>
            </a:b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do Ministra Sprawiedliwości o powołanie go na notarius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PRZEPISY PRAW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art. art. 10–13 ustawy z dania 14 lutego 1991 r. – </a:t>
            </a:r>
            <a:r>
              <a:rPr b="1" i="1" lang="pl-PL" sz="1800" spc="-1" strike="noStrike">
                <a:solidFill>
                  <a:srgbClr val="005696"/>
                </a:solidFill>
                <a:latin typeface="Arial"/>
              </a:rPr>
              <a:t>Prawo o notari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polskie obywatelstwo, 26 lat, pełnia praw cywilnych i obywatelskich,</a:t>
            </a:r>
            <a:br>
              <a:rPr sz="1800"/>
            </a:b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nieskazitelny 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wyższe studia prawnicze, aplikacja notarialna, egzamin notarialny, 2-letnia ases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złożenie wniosku w formie prawem przewidzia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odmowa powołania na notariusza </a:t>
            </a:r>
            <a:r>
              <a:rPr b="0" lang="pl-PL" sz="1800" spc="-1" strike="noStrike">
                <a:solidFill>
                  <a:srgbClr val="005696"/>
                </a:solidFill>
                <a:latin typeface="Wingdings"/>
                <a:ea typeface="Wingdings"/>
              </a:rPr>
              <a:t>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 ww. warunki nie są spełn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WYKŁADNIA PRAWA i SUBSUMP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Organ bada, czy pan Igor spełnia wymogi przewidziane przepisami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DECYZJA/ORZE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powołanie na notariu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odmowa powołania na notariu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SYSTEMY NORMATYW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1"/>
          <p:cNvSpPr/>
          <p:nvPr/>
        </p:nvSpPr>
        <p:spPr>
          <a:xfrm>
            <a:off x="179280" y="1628640"/>
            <a:ext cx="835344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Definicja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Przepisy i normy praw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Systemy normatyw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System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Źródła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Kultura prawna i język praw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2"/>
          <p:cNvSpPr/>
          <p:nvPr/>
        </p:nvSpPr>
        <p:spPr>
          <a:xfrm>
            <a:off x="266760" y="765000"/>
            <a:ext cx="285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c00000"/>
                </a:solidFill>
                <a:latin typeface="Arial"/>
              </a:rPr>
              <a:t>PLAN WYKŁADU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Regulatory zachowań społeczny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NORMATYW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prawo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- co jest nakazane a co zakazane (praw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moralność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- co jest dobre a co jest złe (filozofi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obyczajność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- co wypada a czego nie wypada robić (kultur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religia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- co jest dobre a co złe (wyznani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NIENORMATYW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prawidłowości gospodarki rynkow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trady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m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przesą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Każdy człowiek podlega jednocześnie wielu różnym normom, ponieważ przynależy do wielu grup społecznych (rodzina, klasa szkolna, mieszkaniec wsi, obywatel, it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Relacje między norma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ZWIĄZKI TREŚCI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Zakresy zachowań regulowanych przez prawo –moralność –obyczajność –religię </a:t>
            </a:r>
            <a:r>
              <a:rPr b="0" lang="pl-PL" sz="1800" spc="-1" strike="noStrike" u="sng">
                <a:solidFill>
                  <a:srgbClr val="005696"/>
                </a:solidFill>
                <a:uFillTx/>
                <a:latin typeface="Arial"/>
              </a:rPr>
              <a:t>krzyżują się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569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Niektóre zachowania podlegają pod jeden system normatywny, inne są regulowane przez normy kilku z nich, n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wchodzenie w kostiumie kąpielowym do świąty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przechodzenie przez ulicę na zielonym świe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kradzie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ZWIĄZKI FUNKCJON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Systemy normatywne oddziałują na siebie – </a:t>
            </a:r>
            <a:r>
              <a:rPr b="0" lang="pl-PL" sz="1800" spc="-1" strike="noStrike" u="sng">
                <a:solidFill>
                  <a:srgbClr val="005696"/>
                </a:solidFill>
                <a:uFillTx/>
                <a:latin typeface="Arial"/>
              </a:rPr>
              <a:t>wzajemnie się wspierają lub osłabiają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System prawny sprzeczny z moralnością może osłabiać skuteczność praw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a w rezultacie doprowadzić do odebrania prawu legitymizacji społecznej, n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nakaz zabijania osób kalek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zakaz  rozdawania czerstwego chleba bez odprowadzenia podat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c00000"/>
                </a:solidFill>
                <a:latin typeface="Arial"/>
              </a:rPr>
              <a:t>Relacje między normam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Uduszona żona” </a:t>
            </a:r>
            <a:r>
              <a:rPr b="0" lang="pl-PL" sz="1500" spc="-1" strike="noStrike">
                <a:solidFill>
                  <a:srgbClr val="c00000"/>
                </a:solidFill>
                <a:latin typeface="Arial"/>
              </a:rPr>
              <a:t>Christie N.</a:t>
            </a:r>
            <a:r>
              <a:rPr b="0" i="1" lang="pl-PL" sz="1500" spc="-1" strike="noStrike">
                <a:solidFill>
                  <a:srgbClr val="c00000"/>
                </a:solidFill>
                <a:latin typeface="Arial"/>
              </a:rPr>
              <a:t>, Dogodna ilość przestępstw, </a:t>
            </a:r>
            <a:r>
              <a:rPr b="0" lang="pl-PL" sz="1500" spc="-1" strike="noStrike">
                <a:solidFill>
                  <a:srgbClr val="c00000"/>
                </a:solidFill>
                <a:latin typeface="Arial"/>
              </a:rPr>
              <a:t>PSEP, Warszawa 2004 r., s. 1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Mężczyzna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podał żonie narkotyki i doprowadził do jej śmierci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przez udusze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Mężczyzna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napisał następnie list do policji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, o tym, co się wydarzyło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i co stanie się dalej – zamierzał wsiąść na statek, obciążyć się kamieniami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i wyskoczyć za burt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List dotarł na policję po dwóch dniach. Tak, jak mężczyzna zapowiedział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 liście, policjanci znaleźli otwarte mieszkanie a w nim martwą kobiet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Ciało było troskliwie umyte. Kobieta miała 86 lat, mężczyzna 78.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Ona cierpiała na Alzheimera, on długo o nią dbał,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ale stan kobiety był krytyczny i miała zostać od niego zabr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Doktor rodzinny oświadczył, że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para była z sobą bardzo zżyta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ole tekstowe 3"/>
          <p:cNvSpPr/>
          <p:nvPr/>
        </p:nvSpPr>
        <p:spPr>
          <a:xfrm>
            <a:off x="927000" y="836640"/>
            <a:ext cx="721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normy obyczajowe –normy religijne – normy moralne – normy praw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SYSTEM PRA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60280"/>
            <a:ext cx="4040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Arial"/>
              </a:rPr>
              <a:t>SYSTEM PR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1197000"/>
            <a:ext cx="4497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zbiór norm prawnych tworzących określoną 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całość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, n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5696"/>
                </a:solidFill>
                <a:latin typeface="Arial"/>
              </a:rPr>
              <a:t>system prawny poszczególnych państ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5696"/>
                </a:solidFill>
                <a:latin typeface="Arial"/>
              </a:rPr>
              <a:t>system gałęzi praw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5696"/>
                </a:solidFill>
                <a:latin typeface="Arial"/>
              </a:rPr>
              <a:t>system źródeł praw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4720" y="260280"/>
            <a:ext cx="4041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Arial"/>
              </a:rPr>
              <a:t>SYSTEM PRAWNY DANEGO PAŃŚ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4720" y="1125000"/>
            <a:ext cx="4498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całokształt przepisów prawnych obowiązujących w danym czasie w tym państ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Polska</a:t>
            </a:r>
            <a:br>
              <a:rPr sz="2000"/>
            </a:b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system prawny dzieli się</a:t>
            </a:r>
            <a:br>
              <a:rPr sz="2000"/>
            </a:b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na 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gałęzie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, które obejmują normy regulujące określone kategorie stosunków społecz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ole tekstowe 8"/>
          <p:cNvSpPr/>
          <p:nvPr/>
        </p:nvSpPr>
        <p:spPr>
          <a:xfrm>
            <a:off x="1034640" y="5445000"/>
            <a:ext cx="67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SYSTEM PRAWNY = GAŁĘZIE PRAWA &lt; DZIEDZINY PR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GAŁĘZIE i DZIEDZINY PRA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346392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GAŁĄŹ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1412640"/>
            <a:ext cx="4497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zbiór norm prawnych regulujących daną dziedzinę życia, wyodrębnioną ze względu na </a:t>
            </a:r>
            <a:r>
              <a:rPr b="0" lang="pl-PL" sz="1900" spc="-1" strike="noStrike">
                <a:solidFill>
                  <a:srgbClr val="c00000"/>
                </a:solidFill>
                <a:latin typeface="Arial"/>
              </a:rPr>
              <a:t>przedmiot regul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PRAWO PUBLICZNE</a:t>
            </a:r>
            <a:br>
              <a:rPr sz="2000"/>
            </a:b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(reguluje stosunki między państwem a obywatelem, między państwem a organami państw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PRAWO PRYWATNE</a:t>
            </a:r>
            <a:br>
              <a:rPr sz="2000"/>
            </a:b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(reguluje stosunki między podmiotami równoprawnym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PRAWO MIĘDZYNARODOWE</a:t>
            </a:r>
            <a:br>
              <a:rPr sz="2000"/>
            </a:b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(stosunki między podmiotami obrotu międzynarodowego, także prawo U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24000" y="765000"/>
            <a:ext cx="29610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DZIEDZINA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4720" y="1483920"/>
            <a:ext cx="4498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zbiór norm prawnych regulujących sferę stosunków społecznych objętych daną gałęzią praw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prawo finansowe, prawo konstytucyjne, prawo karne, prawo administracyjne, itd.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</a:t>
            </a: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PRAWO PUBLICZNE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prawo cywilne, prawo rodzinne, prawo pracy, prawo handlowe, itd.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</a:t>
            </a: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PRAWO PRYWATNE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umowy międzynarodowe, prawo ponadnarodowe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</a:t>
            </a: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PRAWO MIĘDZYNARODOWE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c00000"/>
                </a:solidFill>
                <a:latin typeface="Arial"/>
              </a:rPr>
              <a:t>TERMINOLOGIA</a:t>
            </a:r>
            <a:br>
              <a:rPr sz="2500"/>
            </a:br>
            <a:r>
              <a:rPr b="1" lang="pl-PL" sz="2500" spc="-1" strike="noStrike">
                <a:solidFill>
                  <a:srgbClr val="c00000"/>
                </a:solidFill>
                <a:latin typeface="Arial"/>
              </a:rPr>
              <a:t>GAŁĄŹ PRAWA – DZIEDZINA PRAW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roty używane są ZAMIENNIE, n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oszczególne </a:t>
            </a:r>
            <a:r>
              <a:rPr b="0" i="1" lang="pl-PL" sz="1800" spc="-1" strike="noStrike">
                <a:solidFill>
                  <a:srgbClr val="c00000"/>
                </a:solidFill>
                <a:latin typeface="Arial"/>
              </a:rPr>
              <a:t>gałęzie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prawa, np. prawo publiczne, prywatne,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ywilne, karne, rolne…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. STAWECKI, P. WINCZOREK,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STĘP DO PRAWOZNAWST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wyd. 4. Warszawa 2003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 interne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1800" spc="-1" strike="noStrike">
                <a:solidFill>
                  <a:srgbClr val="c00000"/>
                </a:solidFill>
                <a:latin typeface="Arial"/>
              </a:rPr>
              <a:t>Gałęzie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prawa w RP to m.in. prawo gospodarcze. Prawo gospodarcze stanowi swego rodzaju ujęcie w odrębną całość zagadnień z </a:t>
            </a: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dziedziny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prawa cywilnego, administracyjnego i finansow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rawo prywatne to jedna z podstawowych </a:t>
            </a:r>
            <a:r>
              <a:rPr b="0" i="1" lang="pl-PL" sz="1800" spc="-1" strike="noStrike">
                <a:solidFill>
                  <a:srgbClr val="c00000"/>
                </a:solidFill>
                <a:latin typeface="Arial"/>
              </a:rPr>
              <a:t>gałęzi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ra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1800" spc="-1" strike="noStrike">
                <a:solidFill>
                  <a:srgbClr val="c00000"/>
                </a:solidFill>
                <a:latin typeface="Arial"/>
              </a:rPr>
              <a:t>Gałęzie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prawa to prawo cywilne, prawo handlowe, prawo karne, prawo rolne, itp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 konsultacji z pozostałymi prowadzącymi zajęc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ramach szkolenia „Edukacja prawna w podstawie programowej” (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adwokat, doktorant i aplikant adwokacki, prawniczka, specjalizująca się w prawie konsumencki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eee… nie wie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 „</a:t>
            </a: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a to jest jakaś różnica?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 „</a:t>
            </a: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a to w ogóle potrzebne jest uczniom?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ŹRÓDŁA PRA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Pojęcie źródeł praw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NACZENIE FORMAL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1699920"/>
            <a:ext cx="4497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formy, w jakich przejawia się obowiązujące prawo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akty normatyw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POLSKA np.: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Konstytucja RP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ustawy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ratyfikowane umowy międzynarodowe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rozporządzenia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akty prawa miejsc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UNIA EUROPEJSKA np.: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rozporządzenia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dyrektywy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decyzje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3280" y="9075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NACZENIE MATERIAL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1700280"/>
            <a:ext cx="44989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czynniki wpływające na treść norm prawnych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wola polityczna, stosunki społeczne, sytuacja gospodarcza, it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Akt normatywny – formalne źródło pra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8100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dokument zawierający ujęte w przepisy normy regulujące określony zakres stosunków społecz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wydany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przez właściwy org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w stosownej procedurz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należycie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ogłoszon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ole tekstowe 4"/>
          <p:cNvSpPr/>
          <p:nvPr/>
        </p:nvSpPr>
        <p:spPr>
          <a:xfrm>
            <a:off x="5095440" y="1628640"/>
            <a:ext cx="31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Statut Gimnazjum</a:t>
            </a:r>
            <a:br>
              <a:rPr sz="1800"/>
            </a:b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im. Bolka i Lolka w Sulejów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ole tekstowe 5"/>
          <p:cNvSpPr/>
          <p:nvPr/>
        </p:nvSpPr>
        <p:spPr>
          <a:xfrm>
            <a:off x="3706920" y="2492280"/>
            <a:ext cx="543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Ustawa z dnia 7 września 1991 r. o systemie oświ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założyciel szkoły 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(art. 58 ust. 6)</a:t>
            </a:r>
            <a:br>
              <a:rPr sz="1800"/>
            </a:b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rada szkoły 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(art. 42 ust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6"/>
          <p:cNvSpPr/>
          <p:nvPr/>
        </p:nvSpPr>
        <p:spPr>
          <a:xfrm>
            <a:off x="331920" y="981000"/>
            <a:ext cx="133452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92d050"/>
                </a:solidFill>
                <a:latin typeface="Arial"/>
              </a:rPr>
              <a:t>doku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7"/>
          <p:cNvSpPr/>
          <p:nvPr/>
        </p:nvSpPr>
        <p:spPr>
          <a:xfrm>
            <a:off x="2135880" y="1844640"/>
            <a:ext cx="196380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92d050"/>
                </a:solidFill>
                <a:latin typeface="Arial"/>
              </a:rPr>
              <a:t>właściwy org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ole tekstowe 8"/>
          <p:cNvSpPr/>
          <p:nvPr/>
        </p:nvSpPr>
        <p:spPr>
          <a:xfrm>
            <a:off x="837000" y="5157720"/>
            <a:ext cx="685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Organ upoważniony w statucie do jego ogłoszenia/ obwieszczenia</a:t>
            </a:r>
            <a:br>
              <a:rPr sz="1800"/>
            </a:b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(udostępnienie treści statutu na stronie internetowej szkoły,</a:t>
            </a:r>
            <a:br>
              <a:rPr sz="1800"/>
            </a:b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w bibliotece, w gablocie na korytarzu, it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9"/>
          <p:cNvSpPr/>
          <p:nvPr/>
        </p:nvSpPr>
        <p:spPr>
          <a:xfrm>
            <a:off x="1555920" y="2924280"/>
            <a:ext cx="137556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92d050"/>
                </a:solidFill>
                <a:latin typeface="Arial"/>
              </a:rPr>
              <a:t>ogłoszon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10"/>
          <p:cNvSpPr/>
          <p:nvPr/>
        </p:nvSpPr>
        <p:spPr>
          <a:xfrm>
            <a:off x="648000" y="3789360"/>
            <a:ext cx="64843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Ustawa z dnia 7 września 1991 r. o systemie oświ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projekt statuty przygotowuje rada pedagogiczna (art. 42 i 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(uchwała, sposób głosowania, protokó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-uchwala rada szkoły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(skład, protokół z zebrania, itp.) 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(art. 50 i 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11"/>
          <p:cNvSpPr/>
          <p:nvPr/>
        </p:nvSpPr>
        <p:spPr>
          <a:xfrm>
            <a:off x="1989360" y="2421000"/>
            <a:ext cx="148068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92d050"/>
                </a:solidFill>
                <a:latin typeface="Arial"/>
              </a:rPr>
              <a:t>procedurz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DEFINICJA PRA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KULTURA PRAWNA i JĘZYK PRAW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Kultura prawn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wiedza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jednostek i grup (</a:t>
            </a:r>
            <a:r>
              <a:rPr b="1" i="1" lang="pl-PL" sz="2200" spc="-1" strike="noStrike">
                <a:solidFill>
                  <a:srgbClr val="005696"/>
                </a:solidFill>
                <a:latin typeface="Arial"/>
              </a:rPr>
              <a:t>społeczeństwo, uczniowie, urzędnicy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)</a:t>
            </a:r>
            <a:br>
              <a:rPr sz="2200"/>
            </a:b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o obowiązującym prawi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stosunek do obowiązującego prawa (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postawa wobec prawa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), zaangażowanie w jego kształt, postulaty, co do jego zmiany, krytyka, akceptacja i ocena praw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także: stan,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kondycja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prawa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(jego </a:t>
            </a:r>
            <a:r>
              <a:rPr b="1" i="1" lang="pl-PL" sz="2200" spc="-1" strike="noStrike">
                <a:solidFill>
                  <a:srgbClr val="005696"/>
                </a:solidFill>
                <a:latin typeface="Arial"/>
              </a:rPr>
              <a:t>tworzenie, stosowanie, przestrzeganie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), poziom doktryny i nauk o prawie oraz instytucjach, które to prawo stanowią lub stosuj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c00000"/>
                </a:solidFill>
                <a:latin typeface="Arial"/>
              </a:rPr>
              <a:t>Ignorantia iuris noc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83664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5696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5696"/>
                </a:solidFill>
                <a:latin typeface="Arial"/>
              </a:rPr>
              <a:t>Nieznajomość prawa szkodz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zasada, w myśl której nie można tłumaczyć zachowania niezgodnego z obowiązującą normą prawną tym, że nie wiedziało się o istnieniu tej norm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po ogłoszeniu normy prawnej przyjmuje się założenie, że każdy zapoznał się z jej treścią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OGŁOSZENIE NORMY PRAWNEJ </a:t>
            </a:r>
            <a:r>
              <a:rPr b="0" lang="pl-PL" sz="2200" spc="-1" strike="noStrike">
                <a:solidFill>
                  <a:srgbClr val="005696"/>
                </a:solidFill>
                <a:latin typeface="Wingdings"/>
                <a:ea typeface="Wingdings"/>
              </a:rPr>
              <a:t>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 należyte opublikowanie aktu prawn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Zgodnie z ustawą z dnia 20 lipca 2000 r. o ogłaszaniu aktów normatywnych</a:t>
            </a:r>
            <a:br>
              <a:rPr sz="1800"/>
            </a:b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i niektórych innych aktów prawnych (Dz. U. z 2011 r. Nr 197, poz. 1172, z późn. zm.) Dziennik Ustaw Rzeczypospolitej Polskiej wydaje Prezes Rady Ministrów przy pomocy Rządowego Centrum Legisla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Od 1 stycznia 2012 r. Dziennik Ustaw wydawany jest wyłącznie</a:t>
            </a:r>
            <a:br>
              <a:rPr sz="1800"/>
            </a:b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w formie elektronicznej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Odejście od papierowej wersji Dz. U.</a:t>
            </a:r>
            <a:br>
              <a:rPr sz="3000"/>
            </a:b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a zasada </a:t>
            </a:r>
            <a:r>
              <a:rPr b="1" i="1" lang="pl-PL" sz="3000" spc="-1" strike="noStrike">
                <a:solidFill>
                  <a:srgbClr val="c00000"/>
                </a:solidFill>
                <a:latin typeface="Arial"/>
              </a:rPr>
              <a:t>ignorantia iuris noc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125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Odejście od papierowej wersji Dziennika Ustaw pozwoli zaoszczędzić rocznie około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18 mln zł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i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450 ton papieru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Od 2008 r. akty normatywne są ogłaszane przez Kancelarię Premiera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 formie papierowej oraz elektronicz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Od  1 stycznia 2010 r. postać elektroniczna uzyskała walor oficjalności i jest traktowana tak samo jak papiero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Obecnie papierowy Dziennik Ustaw można kupić w prenumeracie i w dwóch punktach sprzedaży w kraju (w Warszawie). Z prenumeraty korzystają głównie urzędy i państwowe przedsiębiorstwa. Roczny koszt prenumeraty to 1620 z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Ustawa wprowadza obowiązek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wydrukowania i wieczystego przechowywania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papierowych odpisów z Dziennika Ustaw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 Kancelarii Prezydenta, Kancelarii Sejmu, Kancelarii Premiera oraz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 Bibliotece Nar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3"/>
          <p:cNvSpPr/>
          <p:nvPr/>
        </p:nvSpPr>
        <p:spPr>
          <a:xfrm>
            <a:off x="4722120" y="602136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c00000"/>
                </a:solidFill>
                <a:latin typeface="Arial"/>
              </a:rPr>
              <a:t>źródło: blog M. Wójcika, posła na Sejm VII kaden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44974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JĘZYK PRAW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1773000"/>
            <a:ext cx="4497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język, w którym formułowane jest praw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język aktów prawny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posiada silnie rozbudowany aparat pojęciowy</a:t>
            </a:r>
            <a:br>
              <a:rPr sz="2200"/>
            </a:b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(</a:t>
            </a:r>
            <a:r>
              <a:rPr b="0" i="1" lang="pl-PL" sz="2200" spc="-1" strike="noStrike">
                <a:solidFill>
                  <a:srgbClr val="005696"/>
                </a:solidFill>
                <a:latin typeface="Arial"/>
              </a:rPr>
              <a:t>np. pozew, zażalenie, organ, służebność, nieruchomości, itp.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4720" y="836280"/>
            <a:ext cx="4498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JĘZYK PRAWNIC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4720" y="1844280"/>
            <a:ext cx="44989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język używany przez osoby stosujące i interpretujące praw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„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język prawników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” używany</a:t>
            </a:r>
            <a:br>
              <a:rPr sz="2200"/>
            </a:b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do mówienia o praw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znaczenie poszczególnych słów</a:t>
            </a:r>
            <a:br>
              <a:rPr sz="2200"/>
            </a:b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i zwrotów różni się</a:t>
            </a:r>
            <a:br>
              <a:rPr sz="2200"/>
            </a:b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od ich znaczenia potoczn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c00000"/>
                </a:solidFill>
                <a:latin typeface="Arial"/>
              </a:rPr>
              <a:t>Język prawny a język prawnicz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07920"/>
            <a:ext cx="9144000" cy="554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JĘZYK PRAW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005696"/>
                </a:solidFill>
                <a:latin typeface="Arial"/>
              </a:rPr>
              <a:t>art. 15 ustawy – Prawo czekow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Indos powinien być bezwarunkowy. Warunki, od których uzależniono indos, uważa się za nienapis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JĘZYK PRAWNICZ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Prawo czekowe nie pozwala na dokonanie indosu pod warunkiem. Zastrzeżenie warunku uważa się za nienapisane a sam indos pozostaje ważn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JĘZYK POTO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Przy zbywaniu czeku nie można zastrzec, że robisz to „</a:t>
            </a:r>
            <a:r>
              <a:rPr b="0" i="1" lang="pl-PL" sz="2200" spc="-1" strike="noStrike">
                <a:solidFill>
                  <a:srgbClr val="005696"/>
                </a:solidFill>
                <a:latin typeface="Arial"/>
              </a:rPr>
              <a:t>pod warunkiem, że coś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”. Nawet, jak coś takiego napiszesz, to nikt</a:t>
            </a:r>
            <a:br>
              <a:rPr sz="2200"/>
            </a:b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nie weźmie tego pod uwagę. Zbywasz albo nie zbywas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Dziękuję za uwagę!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Agnieszka Świder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Sulejówek, 2013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5696"/>
                </a:solidFill>
                <a:latin typeface="Arial"/>
              </a:rPr>
              <a:t>Przedmiotem niniejszego wykładu jest </a:t>
            </a: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PRAWO</a:t>
            </a:r>
            <a:r>
              <a:rPr b="1" lang="pl-PL" sz="3000" spc="-1" strike="noStrike">
                <a:solidFill>
                  <a:srgbClr val="005696"/>
                </a:solidFill>
                <a:latin typeface="Arial"/>
              </a:rPr>
              <a:t> jako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844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5696"/>
                </a:solidFill>
                <a:latin typeface="Arial"/>
              </a:rPr>
              <a:t>…</a:t>
            </a:r>
            <a:r>
              <a:rPr b="1" lang="pl-PL" sz="2800" spc="-1" strike="noStrike">
                <a:solidFill>
                  <a:srgbClr val="005696"/>
                </a:solidFill>
                <a:latin typeface="Arial"/>
              </a:rPr>
              <a:t>ogół przepisów i norm prawnych regulujących stosunki między ludźmi danej społecznoś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Prawo to zjawisko społeczne – pojawia się w ramach zorganizowanej grupy społecznej (np. </a:t>
            </a:r>
            <a:r>
              <a:rPr b="0" i="1" lang="pl-PL" sz="2000" spc="-1" strike="noStrike">
                <a:solidFill>
                  <a:srgbClr val="c00000"/>
                </a:solidFill>
                <a:latin typeface="Arial"/>
              </a:rPr>
              <a:t>państwa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), regulując kwestie o zasięgu społecznym</a:t>
            </a:r>
            <a:br>
              <a:rPr sz="2000"/>
            </a:b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(np. </a:t>
            </a:r>
            <a:r>
              <a:rPr b="0" i="1" lang="pl-PL" sz="2000" spc="-1" strike="noStrike">
                <a:solidFill>
                  <a:srgbClr val="c00000"/>
                </a:solidFill>
                <a:latin typeface="Arial"/>
              </a:rPr>
              <a:t>zasady jego organizacji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Czy jest prawem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akaz odurzania ryb alkohol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Zakaz taki wprowadza prawo stanu Ohio, U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akaz korzystania z pralek automatycznych w niedzie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W Szwajcarii w niedziele zabronione jest: używanie pralek, suszenie prania w ogrodzie, koszenie trawy i mycie samochod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akaz wykorzystania przez pracownika wszystkich dni urlop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W Japonii funkcjonuje nieformalny zakaz wykorzystania wszystkich dni urlopowych (takie postępowanie budzi zgorszeni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akaz zgonu w miejscu publiczny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W Wielkiej Brytanii zakazany jest zgon w Parlamenc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PRZEPISY i NORMY PRAW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Prawo</a:t>
            </a:r>
            <a:r>
              <a:rPr b="1" lang="pl-PL" sz="3500" spc="-1" strike="noStrike">
                <a:solidFill>
                  <a:srgbClr val="005696"/>
                </a:solidFill>
                <a:latin typeface="Arial"/>
              </a:rPr>
              <a:t> ma charakter normatywn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Prawo zawiera normy, tj.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reguły postępowa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Normy prawne dyscyplinują adresatów do określonego sposobu postępowania, wyrażając: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nakaz, zakaz 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lub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dozwolen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akt prawny – przepis prawny – norma praw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KT PRAWNY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to 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akt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organu państwowego ustanawiający normy ogól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PRZEPIS PRAWNY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to 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część aktu prawnego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, wyodrębniona jak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artykuł (</a:t>
            </a:r>
            <a:r>
              <a:rPr b="0" i="1" lang="pl-PL" sz="2000" spc="-1" strike="noStrike">
                <a:solidFill>
                  <a:srgbClr val="005696"/>
                </a:solidFill>
                <a:latin typeface="Arial"/>
              </a:rPr>
              <a:t>art.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, paragraf (</a:t>
            </a:r>
            <a:r>
              <a:rPr b="0" i="1" lang="pl-PL" sz="2000" spc="-1" strike="noStrike">
                <a:solidFill>
                  <a:srgbClr val="005696"/>
                </a:solidFill>
                <a:latin typeface="Arial"/>
              </a:rPr>
              <a:t>§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, ustęp, tiret (–), punkt (</a:t>
            </a:r>
            <a:r>
              <a:rPr b="0" i="1" lang="pl-PL" sz="2000" spc="-1" strike="noStrike">
                <a:solidFill>
                  <a:srgbClr val="005696"/>
                </a:solidFill>
                <a:latin typeface="Arial"/>
              </a:rPr>
              <a:t>3.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, litera (</a:t>
            </a:r>
            <a:r>
              <a:rPr b="0" i="1" lang="pl-PL" sz="2000" spc="-1" strike="noStrike">
                <a:solidFill>
                  <a:srgbClr val="005696"/>
                </a:solidFill>
                <a:latin typeface="Arial"/>
              </a:rPr>
              <a:t>a.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NORMA PRAWNA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to 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reguła postępowania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yinterpretowana z przepisu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lub przepisów prawn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AKT PRAWN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696"/>
                </a:solidFill>
                <a:latin typeface="Arial"/>
              </a:rPr>
              <a:t>USTA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5696"/>
                </a:solidFill>
                <a:latin typeface="Arial"/>
              </a:rPr>
              <a:t>z dnia 21 stycznia 2005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696"/>
                </a:solidFill>
                <a:latin typeface="Arial"/>
              </a:rPr>
              <a:t>o doświadczeniach na zwierzęt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l-PL" sz="3200" spc="-1" strike="noStrike">
                <a:solidFill>
                  <a:srgbClr val="005696"/>
                </a:solidFill>
                <a:latin typeface="Arial"/>
              </a:rPr>
              <a:t>(Dz. U. nr 33, poz. 289 ze z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e tekstowe 3"/>
          <p:cNvSpPr/>
          <p:nvPr/>
        </p:nvSpPr>
        <p:spPr>
          <a:xfrm>
            <a:off x="1338120" y="19162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2d050"/>
                </a:solidFill>
                <a:latin typeface="Arial"/>
              </a:rPr>
              <a:t>RODZAJ  A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ole tekstowe 4"/>
          <p:cNvSpPr/>
          <p:nvPr/>
        </p:nvSpPr>
        <p:spPr>
          <a:xfrm>
            <a:off x="97920" y="28526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f0"/>
                </a:solidFill>
                <a:latin typeface="Arial"/>
              </a:rPr>
              <a:t>DATA WYD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e tekstowe 5"/>
          <p:cNvSpPr/>
          <p:nvPr/>
        </p:nvSpPr>
        <p:spPr>
          <a:xfrm>
            <a:off x="7388640" y="27082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PRZEDMI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REGUL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6"/>
          <p:cNvSpPr/>
          <p:nvPr/>
        </p:nvSpPr>
        <p:spPr>
          <a:xfrm>
            <a:off x="3779640" y="51577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PUBLIK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Łącznik prosty 13"/>
          <p:cNvSpPr/>
          <p:nvPr/>
        </p:nvSpPr>
        <p:spPr>
          <a:xfrm>
            <a:off x="3564000" y="2708280"/>
            <a:ext cx="2016000" cy="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Łącznik prosty 15"/>
          <p:cNvSpPr/>
          <p:nvPr/>
        </p:nvSpPr>
        <p:spPr>
          <a:xfrm>
            <a:off x="2124000" y="3284640"/>
            <a:ext cx="475164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Łącznik prosty 17"/>
          <p:cNvSpPr/>
          <p:nvPr/>
        </p:nvSpPr>
        <p:spPr>
          <a:xfrm>
            <a:off x="1116000" y="3933720"/>
            <a:ext cx="684072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Łącznik prosty 21"/>
          <p:cNvSpPr/>
          <p:nvPr/>
        </p:nvSpPr>
        <p:spPr>
          <a:xfrm>
            <a:off x="2050920" y="5013360"/>
            <a:ext cx="5256360" cy="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PRZEPIS PRAWN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UST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z dnia 21 stycznia 200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o doświadczeniach na zwierzę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(Dz. U. nr 33, poz. 289 ze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art. 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Zabrania si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3) 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przeprowadzania doświadczeń w celu testowania kosmetyków lub środków higienicz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art. 40. 1. 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Kto przeprowadza doświadczenia w celu testowania kosmetyków</a:t>
            </a:r>
            <a:br>
              <a:rPr sz="1800"/>
            </a:b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lub środków higienicznych podlega grzywnie, karze ograniczenia wolności albo pozbawienia wolności do ro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0:32Z</dcterms:created>
  <dc:creator>Barbara Jechalska</dc:creator>
  <dc:description/>
  <dc:language>en-US</dc:language>
  <cp:lastModifiedBy> </cp:lastModifiedBy>
  <dcterms:modified xsi:type="dcterms:W3CDTF">2013-04-15T09:00:15Z</dcterms:modified>
  <cp:revision>128</cp:revision>
  <dc:subject/>
  <dc:title>Slajd 1</dc:title>
</cp:coreProperties>
</file>